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C05-360E-42F1-AA2E-B84415C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402-888D-4F2C-9A31-0E5B4BAA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577-9B09-4D27-9F16-EBFE63A6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CF2-871D-4D6D-BB91-7840E78D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C79-4077-47AF-BC93-68D465D0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7D1-4FA6-4128-BEF6-EDBBD944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9D1-A60B-4DE8-857A-4283168D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0EE-8D0E-4A8C-AC20-A5F3C0C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B4C-689D-49B3-95D7-6F59A1B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D9C-C1D9-4039-BD21-91E70F7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526-0F6D-413D-9106-7B41BAD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F48-98A8-4F9E-8ABB-975BD1DB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2689-9DDF-407E-8BF2-C00E1E11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counting cycle for Electronic Arts Inc. different from other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tep in the accounting cycle is the preparation of the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ll closing entries have been journalized and posted, the account balances for all temporary accounts will b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nual accounting period adopted by a business is known as its fisca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sheet is used at the end of the accounting period t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ze adjust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ze 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5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 of the balance sheet that expands the assets and liabilities sections to include current assets, property, plant and equipment, current liabilities, and long-term liabilities is called a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assifie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en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s and amounts on the post-closing trial balance should agree exactly with the accounts and amounts liste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PChart" descr=""/>
          <p:cNvPicPr/>
          <p:nvPr/>
        </p:nvPicPr>
        <p:blipFill>
          <a:blip r:embed="rId1"/>
          <a:stretch/>
        </p:blipFill>
        <p:spPr>
          <a:xfrm>
            <a:off x="4508640" y="1917720"/>
            <a:ext cx="4483080" cy="4871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ed earnings stat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ed tri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accounts that are not carried forward from year to year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ing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correct sequencing for closing the temporary accou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nse accounts, revenue accounts, Income Summary account, Dividends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nue accounts, expense accounts, Income Summary account, Dividends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nue accounts, expense accounts, Dividends account, Income Summary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vidends account, revenue accounts, expense accounts, Income Summary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ome summary account is only used dur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ass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PChart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132080" cy="464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53720"/>
            <a:ext cx="41148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property, plant,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ported directly below property, plant,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expected to be converted to cash or sold or used up usually within one year or 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ported on the income statement with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Electronic Arts Inc. follow generally accepted accounting principles throughout its cycle of business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al entry to close revenue accounts incl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Income Summary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Income Summary account and crediting the revenue 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Retained Earning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Dividend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al entry to close expense accounts incl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Income Summary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Income Summary account and crediting the expense 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Retained Earning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Dividend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accounts is not closed to the Income Summary accou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revenu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ges 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739800"/>
            <a:ext cx="8305920" cy="1917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s for the accounts listed below appear in the Adjusted Trial Balance columns of the end-of-period spreadsheet (work sheet). Indicate whether each balance should be extended to (a) an Income Statement column or (b) a Balance Sheet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4049640"/>
          <a:ext cx="8382240" cy="220032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Income statement column &amp; (3) Balance shee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Income statement column &amp; (3) Income statemen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Balance sheet column &amp; (3) Balance shee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Balance sheet column &amp; (3) Income statemen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57200" y="297828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203640"/>
                <a:tab algn="l" pos="3549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3203640"/>
                <a:tab algn="l" pos="3549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13" name="Rectangle 19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1 (1&amp;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PChart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19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1 (1&amp;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5029200" cy="304812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come statement column &amp; (3) Balance shee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come statement column &amp; (3) Income statemen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Balance sheet column &amp; (3) Balance shee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Balance sheet column &amp; (3) Income statemen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140360"/>
          <a:ext cx="8305920" cy="203040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0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4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9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19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25" name="Group 2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26" name="Rectangle 2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57200" y="762120"/>
            <a:ext cx="8305920" cy="30150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k Gaddis owns and operates Gaddis Employment Services. On January 1, 2009, Retained Earnings had a balance of $186,000. During the year, an additional $40,000 of capital stock was issued for cash and dividends of $25,000 were paid. For the year ended December 31, 2009, Gaddis Employment Services reported a net income of $18,750. The ending balance in Retained Earnings at 12/31/2009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TPChart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43828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04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44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9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19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685800"/>
            <a:ext cx="8305920" cy="22834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counts appear in the adjusted trial balance of Hindsight Consulting. Indicate whether each account would be reported in the (a) current asset; (b) property, plant, and equipment; (c) current liability; (d) long-term liability; or (e) stockholders’ equity section of the December 31, 2009, balance sheet of Hindsight Consul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191120"/>
          <a:ext cx="8331120" cy="2493720"/>
        </p:xfrm>
        <a:graphic>
          <a:graphicData uri="http://schemas.openxmlformats.org/drawingml/2006/table">
            <a:tbl>
              <a:tblPr/>
              <a:tblGrid>
                <a:gridCol w="6365880"/>
                <a:gridCol w="216000"/>
                <a:gridCol w="1749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Current asset &amp; (6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Stockholders’ equity &amp; (6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Current asset &amp; (6) Long-term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Stockholders’ equity &amp; (6) Long-term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1" name="Group 24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42" name="Rectangle 25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6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1&amp;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8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457200" y="313056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arned Rent (3 month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TPChart" descr=""/>
          <p:cNvPicPr/>
          <p:nvPr/>
        </p:nvPicPr>
        <p:blipFill>
          <a:blip r:embed="rId1"/>
          <a:stretch/>
        </p:blipFill>
        <p:spPr>
          <a:xfrm>
            <a:off x="4813200" y="2057400"/>
            <a:ext cx="43354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50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1&amp;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343400" cy="396252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Current asset &amp; (6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Stockholders’ equity &amp; (6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Current asset &amp; (6) Long-term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Stockholders’ equity &amp; (6) Long-term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755640"/>
            <a:ext cx="8305920" cy="22834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counts appear in the adjusted trial balance of Hindsight Consulting. Indicate whether each account would be reported in the (a) current asset; (b) property, plant, and equipment; (c) current liability; (d) long-term liability; or (e) stockholders’ equity section of the December 31, 2009, balance sheet of Hindsight Consul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4176720"/>
          <a:ext cx="8305920" cy="2390760"/>
        </p:xfrm>
        <a:graphic>
          <a:graphicData uri="http://schemas.openxmlformats.org/drawingml/2006/table">
            <a:tbl>
              <a:tblPr/>
              <a:tblGrid>
                <a:gridCol w="8077320"/>
                <a:gridCol w="228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Long-term liability &amp; (7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Current liability &amp; (7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Long-term liability &amp; (7) Property, plant, &amp;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Current liability &amp; (7) Property, plant, &amp;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20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457200" y="320688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Payable (due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2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0" name="Rectangle 23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3&amp;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Electronic Arts Inc. follow the same accounting cycle annually to prepare its financial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PChart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4043160" cy="4648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6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3&amp;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648320" cy="396216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Long-term liability &amp; (7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Current liability &amp;     (7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Long-term liability &amp; (7) Property, plant, &amp;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Current liability &amp;     (7) Property, plant, &amp;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financial statements that are published on the Web site for Electronic Arts Inc. prepared by public account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complicated process for Electronic Arts Inc. to get its accounts ready for recording the operations of the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PChart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952880" cy="5143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sheet is a formal financial stat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anent accounts are also called real accou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common classes of liabilities are current liabilities and short-term li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PChart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6944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entries transfer the balance of temporary accounts to the retained earnings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PChart" descr=""/>
          <p:cNvPicPr/>
          <p:nvPr/>
        </p:nvPicPr>
        <p:blipFill>
          <a:blip r:embed="rId1"/>
          <a:stretch/>
        </p:blipFill>
        <p:spPr>
          <a:xfrm>
            <a:off x="4343400" y="1968480"/>
            <a:ext cx="4635360" cy="4889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23:39:57Z</dcterms:created>
  <dc:creator> </dc:creator>
  <dc:description/>
  <dc:language>en-US</dc:language>
  <cp:lastModifiedBy>Leslie</cp:lastModifiedBy>
  <dcterms:modified xsi:type="dcterms:W3CDTF">2008-12-30T02:56:03Z</dcterms:modified>
  <cp:revision>66</cp:revision>
  <dc:subject/>
  <dc:title>Is the accounting process for Electronic Arts Inc. different from other companies?</dc:title>
</cp:coreProperties>
</file>